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C84B-6113-4B5C-9823-F38BDD5D59D1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58920" y="1484280"/>
            <a:ext cx="640080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G4 v7.0p1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luka 2003.1b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ka vs BMPT 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there is a significant disagreement between G4/QGSP and SPY data and also BMPT parameterization, one can question the cross-section computati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Fluka in the same beam &amp; target conditions and compute the cross-section exactly as previous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791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41480"/>
            <a:ext cx="6801120" cy="51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18560" y="4700520"/>
            <a:ext cx="20919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mall overestimat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x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 0.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reliminary conclus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computation of the cross-section is correct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luka 2003.1b reproduces quite well the SPY-BMPT parameterization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One may wander if Fluka is using the BMPT parameterization in some way?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eant4/QGSP fails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Need some expertise from G4 Team to see if I do not make a misuse of G4 and/or QGSP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68360" y="1700280"/>
            <a:ext cx="4608720" cy="37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t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720" y="74160"/>
            <a:ext cx="302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Kaons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(SPY use case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43480" y="1484280"/>
            <a:ext cx="3405240" cy="258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92600" y="1125360"/>
            <a:ext cx="0" cy="511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0080" y="7650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410280" cy="2600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79880" y="76500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4/QG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476520" cy="25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34560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5327640" cy="4035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78040" y="407664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1268280"/>
            <a:ext cx="3311280" cy="489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465800" cy="3189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490920" cy="2651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456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 (SPY-lik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7520" y="1281240"/>
            <a:ext cx="6828840" cy="3854160"/>
            <a:chOff x="767520" y="1281240"/>
            <a:chExt cx="6828840" cy="3854160"/>
          </a:xfrm>
        </p:grpSpPr>
        <p:grpSp>
          <p:nvGrpSpPr>
            <p:cNvPr id="91" name=""/>
            <p:cNvGrpSpPr/>
            <p:nvPr/>
          </p:nvGrpSpPr>
          <p:grpSpPr>
            <a:xfrm>
              <a:off x="924840" y="1281240"/>
              <a:ext cx="6671520" cy="3854160"/>
              <a:chOff x="924840" y="1281240"/>
              <a:chExt cx="6671520" cy="38541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924840" y="1281240"/>
                <a:ext cx="6671520" cy="3854160"/>
                <a:chOff x="924840" y="1281240"/>
                <a:chExt cx="6671520" cy="385416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rcRect l="4260" t="17657" r="1767" b="8688"/>
                <a:stretch/>
              </p:blipFill>
              <p:spPr>
                <a:xfrm>
                  <a:off x="1187280" y="1665000"/>
                  <a:ext cx="6337440" cy="33112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 rot="20398200">
                  <a:off x="4572360" y="4329720"/>
                  <a:ext cx="244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6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5651640" y="1281240"/>
                  <a:ext cx="1944720" cy="1751760"/>
                  <a:chOff x="5651640" y="1281240"/>
                  <a:chExt cx="1944720" cy="17517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5651640" y="1665000"/>
                    <a:ext cx="1944720" cy="136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2173800">
                    <a:off x="5861520" y="1752840"/>
                    <a:ext cx="1727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00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924840" y="3896640"/>
                  <a:ext cx="983160" cy="398880"/>
                  <a:chOff x="924840" y="3896640"/>
                  <a:chExt cx="983160" cy="398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924840" y="3896640"/>
                    <a:ext cx="867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08000" y="4040640"/>
                    <a:ext cx="0" cy="2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1466640" y="1413000"/>
                <a:ext cx="1689480" cy="1044000"/>
                <a:chOff x="1466640" y="1413000"/>
                <a:chExt cx="1689480" cy="10440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466640" y="1413000"/>
                  <a:ext cx="168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 (400GeV/c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11280" y="1954080"/>
                  <a:ext cx="720720" cy="50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 flipV="1">
              <a:off x="3492360" y="3465360"/>
              <a:ext cx="39610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7520" y="238428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Typical ev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72520" y="296064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9080" y="5516640"/>
            <a:ext cx="702036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Geant4 use 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with G4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7017480" y="1952640"/>
            <a:ext cx="147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sults with G4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s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8360" y="1324080"/>
            <a:ext cx="6858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6484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19T12:38:30Z</dcterms:modified>
  <cp:revision>28</cp:revision>
  <dc:subject/>
  <dc:title>pBe (400GeV/c)</dc:title>
</cp:coreProperties>
</file>